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3B94C-4C01-4EB2-8C0D-6481C8BC5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18BBA-BE5E-43BF-9F9B-DE63545DA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CF4BA-07D1-4E9F-8C59-65F8F574F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24894-811E-4040-B46D-B47579827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656BB-F25E-4E84-BFFF-CDB6CC328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50699-3569-485C-9992-4AC324F36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D339B-3644-4897-A6D3-460A9DB46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4C1F8-33BA-4D3A-B6D5-46F18BA53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64602-880E-4882-998E-A763911D5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7B1BD-797C-40D2-981A-E6757C752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92997-BBC2-4191-A122-979E29651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65DFA-30F8-4D2A-AE11-9E7D2413A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31E5-1E2B-4210-821D-067B2BAB71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East_Haddam%2C_Connecticut"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Siege_of_Boston"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2193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3" name="" descr=""/>
          <p:cNvPicPr/>
          <p:nvPr/>
        </p:nvPicPr>
        <p:blipFill>
          <a:blip r:embed="rId1"/>
          <a:stretch/>
        </p:blipFill>
        <p:spPr>
          <a:xfrm>
            <a:off x="1066680" y="1143000"/>
            <a:ext cx="6696360" cy="5019840"/>
          </a:xfrm>
          <a:prstGeom prst="rect">
            <a:avLst/>
          </a:prstGeom>
          <a:ln w="0">
            <a:noFill/>
          </a:ln>
        </p:spPr>
      </p:pic>
      <p:sp>
        <p:nvSpPr>
          <p:cNvPr id="44" name=""/>
          <p:cNvSpPr/>
          <p:nvPr/>
        </p:nvSpPr>
        <p:spPr>
          <a:xfrm>
            <a:off x="2362320" y="4572000"/>
            <a:ext cx="4562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e lived in Coventry, Connecticu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han was born June 6, 1755- died September 22, 1776</a:t>
            </a:r>
            <a:endParaRPr b="0" lang="en-US" sz="2400" spc="-1" strike="noStrike">
              <a:solidFill>
                <a:srgbClr val="000000"/>
              </a:solidFill>
              <a:latin typeface="Arial"/>
            </a:endParaRPr>
          </a:p>
        </p:txBody>
      </p:sp>
      <p:sp>
        <p:nvSpPr>
          <p:cNvPr id="45" name=""/>
          <p:cNvSpPr/>
          <p:nvPr/>
        </p:nvSpPr>
        <p:spPr>
          <a:xfrm>
            <a:off x="2590920" y="2590920"/>
            <a:ext cx="3504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athan Ha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han Hale’s Portrai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2819520" y="1752480"/>
            <a:ext cx="4190760" cy="425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han Hale in Ac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66880" y="1676520"/>
            <a:ext cx="3962520" cy="441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ther Richard Hale, mother Elizabeth Hale, and brother Enoch. When Hale was fourteen years old, he was sent with his brother Enoch to Yale University. The Hale brothers belonged to the Yale literary fraternity, which debated topics in astronomy, mathematics, literature, and the ethics of slavery. Graduating with first-class honors in 1773, Nathan became a teacher, first in East</a:t>
            </a:r>
            <a:r>
              <a:rPr b="0" lang="en-US" sz="2800" spc="-1" strike="noStrike" u="sng">
                <a:solidFill>
                  <a:srgbClr val="009999"/>
                </a:solidFill>
                <a:uFillTx/>
                <a:latin typeface="Arial"/>
                <a:hlinkClick r:id="rId1"/>
              </a:rPr>
              <a:t> </a:t>
            </a:r>
            <a:r>
              <a:rPr b="0" lang="en-US" sz="2800" spc="-1" strike="noStrike" u="sng">
                <a:solidFill>
                  <a:srgbClr val="000000"/>
                </a:solidFill>
                <a:uFillTx/>
                <a:latin typeface="Arial"/>
              </a:rPr>
              <a:t>Haddam and later in New London. After the Revolutionary War began in 1775, he joined a Connecticut militia and was elected first lieutena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ccupat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han’s occupation was being a teacher also being a spy for the America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le had captured a supply- loaded vessel from the guns of a British warship.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won him a place in a fighting group called the Rangers. People believed that the Rangers were known for there leadership and dangerous missions. </a:t>
            </a:r>
            <a:endParaRPr b="0" lang="en-US" sz="3200" spc="-1" strike="noStrike">
              <a:solidFill>
                <a:srgbClr val="000000"/>
              </a:solidFill>
              <a:latin typeface="Arial"/>
            </a:endParaRPr>
          </a:p>
        </p:txBody>
      </p:sp>
      <p:sp>
        <p:nvSpPr>
          <p:cNvPr id="56" name=""/>
          <p:cNvSpPr/>
          <p:nvPr/>
        </p:nvSpPr>
        <p:spPr>
          <a:xfrm flipH="1">
            <a:off x="9372600" y="4648320"/>
            <a:ext cx="18432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made Nathan a Patrio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is best remembered for his speech before being hanged following the Battle of Long Island, in which he purportedly said, "I only regret that I have but one life to lose for my country." Hale has long been considered an American hero and, in 1985, he was officially designated the State Hero of Connecticut. When his militia unit participated in the Siege of</a:t>
            </a:r>
            <a:r>
              <a:rPr b="0" lang="en-US" sz="2400" spc="-1" strike="noStrike" u="sng">
                <a:solidFill>
                  <a:srgbClr val="009999"/>
                </a:solidFill>
                <a:uFillTx/>
                <a:latin typeface="Arial"/>
                <a:hlinkClick r:id="rId1"/>
              </a:rPr>
              <a:t> </a:t>
            </a:r>
            <a:r>
              <a:rPr b="0" lang="en-US" sz="2400" spc="-1" strike="noStrike" u="sng">
                <a:solidFill>
                  <a:srgbClr val="000000"/>
                </a:solidFill>
                <a:uFillTx/>
                <a:latin typeface="Arial"/>
              </a:rPr>
              <a:t>Boston, Hale remained behind, but, on July 6, 1775, he joined the regular Continental Army's 7th Connecticut Regiment under Colonel Charles Webb of Stamford. He was promoted to captain and in March 1776, commanded a small unit of Lt. Col. Thomas Knowlton's Rangers defending New York City. They managed to rescue a ship full of provisions from the guard of a British “man-of-w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rie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han Hale Cemetery, Coventry Tolland County</a:t>
            </a:r>
            <a:endParaRPr b="0" lang="en-US" sz="3200" spc="-1" strike="noStrike">
              <a:solidFill>
                <a:srgbClr val="000000"/>
              </a:solidFill>
              <a:latin typeface="Arial"/>
            </a:endParaRPr>
          </a:p>
        </p:txBody>
      </p:sp>
      <p:pic>
        <p:nvPicPr>
          <p:cNvPr id="61" name="" descr=""/>
          <p:cNvPicPr/>
          <p:nvPr/>
        </p:nvPicPr>
        <p:blipFill>
          <a:blip r:embed="rId1"/>
          <a:stretch/>
        </p:blipFill>
        <p:spPr>
          <a:xfrm>
            <a:off x="5638680" y="2438280"/>
            <a:ext cx="2857680" cy="377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55:08Z</dcterms:created>
  <dc:creator>Brian</dc:creator>
  <dc:description/>
  <dc:language>en-US</dc:language>
  <cp:lastModifiedBy>Brian</cp:lastModifiedBy>
  <dcterms:modified xsi:type="dcterms:W3CDTF">2007-11-28T00:18:33Z</dcterms:modified>
  <cp:revision>5</cp:revision>
  <dc:subject/>
  <dc:title>Nathan Hale</dc:title>
</cp:coreProperties>
</file>